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92050-B999-4495-A44A-4A0E40E484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884C2-39B5-42D0-8ABA-1171677A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E2F4E-572A-4E6D-9562-170C07D2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64499-4233-4F2A-AD9A-8C7F3A8476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FE758-6810-4A2D-AC19-3EDA3632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AADBB-D5A9-4A5E-AB3E-C0FFD51B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25F2C-DAA8-4D3F-9F05-BAB4C85E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50EAE-7939-4CE6-8BC2-EB58BBB12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DC802-40D7-4382-B09A-FC9EAD8C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B564F-B451-497C-92A9-12298BEB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9D7F8-52E9-42F3-8EBC-6AC66473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2CE8E-8A78-4144-B857-04FDB4E3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AF72-825A-43E9-9B5B-24796909519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杆菌科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234160" y="507204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10920" y="1515960"/>
            <a:ext cx="8281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侵袭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可在胞内存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肠热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伤寒或副伤寒；两次菌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胆囊是沙门菌储存场所；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病后免疫力不显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4360" y="1557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的细菌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标本采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热症患者发病一周内取血液，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周取粪便或尿液等；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idal te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带菌者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、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125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用已知的伤寒沙门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，甲型副伤寒、肖氏和希氏等沙门菌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分别与患者血清作定量凝集试验，以测定患者血清中有无相应抗体及其含量，辅助诊断肠热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判定结果时需注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本地区人群正常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态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在诊断上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26560" y="2091960"/>
            <a:ext cx="7921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无鞭毛、无荚膜，有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般不分解乳糖，不分解尿素、不产生硫化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四群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，对酸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5640" y="1699920"/>
            <a:ext cx="784872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备神经毒性、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胞毒性和肠毒性等多种活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细菌性痢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菌痢、慢性菌痢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毒性菌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免疫力维持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18920" y="1844640"/>
            <a:ext cx="66978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采集及分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快速诊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荧光免疫菌球法、协同凝集试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综合性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重耐药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五节 其他肠杆菌科细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02920" y="2636640"/>
            <a:ext cx="6697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克雷伯菌属：肺炎克雷伯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形杆菌属：外斐试验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eil-felix tes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58560" y="2492280"/>
            <a:ext cx="71341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细菌生物学特性的异同及其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别鉴定中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抗原种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的原理与结果分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74240" y="2368080"/>
            <a:ext cx="7169400" cy="36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杆菌科细菌是一大群生物学特性相似、常寄居在人和动物肠道中的革兰阴性杆菌，可随人和动物粪便排出而广泛分布于水和土壤中。多数肠杆菌科细菌为肠道正常菌群成员，少数为致病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肠杆菌科细菌的共同生物学特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鞭毛、菌毛，少数有荚膜或微荚膜，不形成芽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需氧或兼性厌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类型多样化，可用于细菌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构造较复杂，有菌体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、鞭毛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和微荚膜抗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水、粪便中可生存较长时间，但对理化因素的抵抗力不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变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209196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某些菌株有微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发酵乳糖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MVi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结果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+-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种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型表示方式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8:K40:H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27:H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86000" y="2080800"/>
            <a:ext cx="685800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；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素：肠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样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412640"/>
            <a:ext cx="7921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外感染：泌尿系感染（最常见）；新生儿脑膜炎、败血症（婴儿、老年人或免疫功能极度低下者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腹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T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和旅游者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P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I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，类似细菌性痢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H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出血性结肠炎和溶血性尿毒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Agg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儿持续性水样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04920" y="1743120"/>
          <a:ext cx="8610480" cy="4206960"/>
        </p:xfrm>
        <a:graphic>
          <a:graphicData uri="http://schemas.openxmlformats.org/drawingml/2006/table">
            <a:tbl>
              <a:tblPr/>
              <a:tblGrid>
                <a:gridCol w="1242720"/>
                <a:gridCol w="1295640"/>
                <a:gridCol w="3457440"/>
                <a:gridCol w="26146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菌株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作用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致病机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疾病与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T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L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肠毒素，大量分泌体液电解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幼儿和旅行者腹泻，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P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黏附，破坏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水样便或黏液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I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侵袭，破坏结肠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较大儿童和成人腹泻，脓血便或黏液血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003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H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溶源性噬菌体编码毒素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x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，中断肠黏膜上皮细胞蛋白质合成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出血性结肠炎，儿童老人多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Agg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细菌聚集黏附于上皮细胞，阻断液体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持续性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4360" y="1412640"/>
            <a:ext cx="792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细菌学检查：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卫生细菌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国卫生标准为每毫升饮用水、汽水、果汁中细菌总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；每升饮用水中大肠菌群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，瓶装水、果汁等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菌毛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药菌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360" y="191592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一般无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能发酵乳糖，部分致病沙门菌硫化氢试验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少数菌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3:26Z</dcterms:modified>
  <cp:revision>135</cp:revision>
  <dc:subject/>
  <dc:title>内科护理学</dc:title>
</cp:coreProperties>
</file>